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1AF0-9103-44F0-8A8F-026AFA81F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wd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udents answer questions without help.  Teams then share, check and coa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upplie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e wipe-boards  ( one per student), dry-erase markers (one per studen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cher monitors and has key for additional assista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udents can have calculators  to use as need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etup: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ms each have a set of question cards stacked face down  in  the center of the tabl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TEP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cher selects one student on each team to be th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Showdown Capta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for the first roun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owdown Captain draws the first card and reads the ques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orking SOLO, all students write their answer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n finished, teammates signal when they’re read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Showdown Captain calls, “Showdown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mmates show and state their answer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owdown Captain leads the checking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correct, the team celebrates; if not, teammates coach, then celebra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person on th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right of the Showdown Capta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becomes the next Showdown Captain for the next rou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30EE-D7BC-4B98-95BC-66E619901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CAE-10CF-411D-9AC6-F7B01585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4D1-29F7-4D80-8CFA-3C72A3D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2E8-9C73-4842-B7B9-11ADAC23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62D-9919-4DAA-951A-4C51E01F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AC8E-DFCA-4CDB-A777-EF6281A8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DD2E-AC57-4C21-A9C0-C286BAB5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6E42-4831-45F1-96E6-41311E78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C7F9-4FFF-4D9D-A781-04EE22E1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B5A9-643B-416B-B2F7-B20996E1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2AA9-AB7C-4C65-88D8-4F9FB1CD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AFE2-2983-4BB5-8A58-07CF1CB0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5B3-38B8-466C-800E-5819D6AB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664A-17C0-4330-A1D4-3A841A98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49C-42ED-4CDA-A5BC-4ACA369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1966-8995-4D8D-A886-9284755E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DE33-34B9-4497-8FB6-E65DD31D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CAA1-4705-42B9-86BC-5A05C8F4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D597-A01A-494C-8DA0-9DB16963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0B98-93D4-48A1-AE8B-439C807A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9D04-A0B6-4155-AFB7-6682E3A9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1BC3-7A74-4D91-94A5-04E07CE8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D5DC-DE5D-45F0-AB0D-A7757781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D19-B113-4F8F-9A8F-BB03B81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B35B-9CBB-400D-A13B-1AEFC15A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1348-DA7B-455A-8BDC-3C255877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3924-7532-4961-BDD3-2FD942D2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4548-7509-4822-8F0F-A38DE356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4498A-8935-4852-8BA3-FA27FC48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1E9D-1826-4B06-9FA7-E92C8679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0721-A813-4126-80D2-5EB1C0AA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CF9-E69D-4076-AE23-341E4C6A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96C-FA5F-4E28-9051-8312C440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761-4D91-4FFB-9DC4-202F01BF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C82-2F2E-4D0A-BF7A-9567E577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12C-0CA7-40EF-B15E-75D7E96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953-9E06-4240-AC6D-236E6FFD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8BAA-9354-4B3C-9C0E-3E5B6CA66A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DFFF-F2FB-480F-919E-306A9D8C7FC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9639-4189-42DB-998B-A37769B49F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Card Game – Factoring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2" descr="C:\Users\Anna\AppData\Local\Microsoft\Windows\Temporary Internet Files\Content.IE5\6VSZAFZQ\MCj04257640000[1].wmf"/>
          <p:cNvPicPr/>
          <p:nvPr/>
        </p:nvPicPr>
        <p:blipFill>
          <a:blip r:embed="rId3"/>
          <a:stretch/>
        </p:blipFill>
        <p:spPr>
          <a:xfrm rot="20902800">
            <a:off x="5815080" y="4782960"/>
            <a:ext cx="1727280" cy="192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Anna\AppData\Local\Microsoft\Windows\Temporary Internet Files\Content.IE5\6JY236FF\MCj04258000000[1].wmf"/>
          <p:cNvPicPr/>
          <p:nvPr/>
        </p:nvPicPr>
        <p:blipFill>
          <a:blip r:embed="rId4"/>
          <a:stretch/>
        </p:blipFill>
        <p:spPr>
          <a:xfrm rot="680400">
            <a:off x="7009920" y="4343040"/>
            <a:ext cx="1727280" cy="1920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:\Users\Anna\AppData\Local\Microsoft\Windows\Temporary Internet Files\Content.IE5\WVOH91YM\MCj04108410000[1].wmf"/>
          <p:cNvPicPr/>
          <p:nvPr/>
        </p:nvPicPr>
        <p:blipFill>
          <a:blip r:embed="rId5"/>
          <a:stretch/>
        </p:blipFill>
        <p:spPr>
          <a:xfrm>
            <a:off x="762120" y="1523880"/>
            <a:ext cx="3020760" cy="426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8"/>
          <p:cNvGraphicFramePr/>
          <p:nvPr/>
        </p:nvGraphicFramePr>
        <p:xfrm>
          <a:off x="3505320" y="3962520"/>
          <a:ext cx="2438280" cy="66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3962520"/>
                    <a:ext cx="24382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2"/>
          <a:stretch/>
        </p:blipFill>
        <p:spPr>
          <a:xfrm>
            <a:off x="109440" y="-231840"/>
            <a:ext cx="8663040" cy="865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457200" y="395280"/>
            <a:ext cx="8458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uppli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ipe board (1 per 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ry-erase marker (1 per 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ry-erase eraser (1 per 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alculator (1 per 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ck of cards (1 deck per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up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ms each have a set of question cards stacked face down  in  the center of the table. 4 members to a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TEP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selects one student on each team to b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Showdown Captai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for the first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wdown Captain draws the first card and reads the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orking SOLO, all students write their answers using the wipe board &amp; marker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en finished, teammates signal when they’re ready. 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[thumbs u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Showdown Captain calls, “Showdow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mmates show and state their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wdown Captain leads the checking.  Showdown captain also has the answer key for all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correct, the team celebrates; if not, teammates coach, then celeb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person on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right of the Showdown Captain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ecomes the next Showdown Captain for the next 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:\Users\Anna\AppData\Local\Microsoft\Windows\Temporary Internet Files\Content.IE5\WVOH91YM\MCj04108410000[1].wmf"/>
          <p:cNvPicPr/>
          <p:nvPr/>
        </p:nvPicPr>
        <p:blipFill>
          <a:blip r:embed="rId3"/>
          <a:stretch/>
        </p:blipFill>
        <p:spPr>
          <a:xfrm rot="478800">
            <a:off x="7059240" y="388440"/>
            <a:ext cx="1349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 KEY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00400" y="1981080"/>
          <a:ext cx="4038480" cy="4546800"/>
        </p:xfrm>
        <a:graphic>
          <a:graphicData uri="http://schemas.openxmlformats.org/drawingml/2006/table">
            <a:tbl>
              <a:tblPr/>
              <a:tblGrid>
                <a:gridCol w="782640"/>
                <a:gridCol w="1198440"/>
                <a:gridCol w="533520"/>
                <a:gridCol w="15238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#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Ans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#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Ans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+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)(x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4)(x+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-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5)(x+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6)(x-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7)(x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2)(x-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6)(x+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8)(x+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5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6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4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5)(x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2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16)(x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8)(x-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9)(x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4)(x-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0)(x-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2)(x+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8)(x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2)(x-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4)(x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5)(x-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6)(x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2" descr="C:\Users\Anna\AppData\Local\Microsoft\Windows\Temporary Internet Files\Content.IE5\6VSZAFZQ\MCj04257640000[1].wmf"/>
          <p:cNvPicPr/>
          <p:nvPr/>
        </p:nvPicPr>
        <p:blipFill>
          <a:blip r:embed="rId2"/>
          <a:stretch/>
        </p:blipFill>
        <p:spPr>
          <a:xfrm rot="20902800">
            <a:off x="7238520" y="2209320"/>
            <a:ext cx="1374840" cy="153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Anna\AppData\Local\Microsoft\Windows\Temporary Internet Files\Content.IE5\6JY236FF\MCj04258000000[1].wmf"/>
          <p:cNvPicPr/>
          <p:nvPr/>
        </p:nvPicPr>
        <p:blipFill>
          <a:blip r:embed="rId3"/>
          <a:stretch/>
        </p:blipFill>
        <p:spPr>
          <a:xfrm rot="680400">
            <a:off x="7467480" y="3581280"/>
            <a:ext cx="1424160" cy="1582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Anna\AppData\Local\Microsoft\Windows\Temporary Internet Files\Content.IE5\WVOH91YM\MCj04108410000[1].wmf"/>
          <p:cNvPicPr/>
          <p:nvPr/>
        </p:nvPicPr>
        <p:blipFill>
          <a:blip r:embed="rId4"/>
          <a:stretch/>
        </p:blipFill>
        <p:spPr>
          <a:xfrm>
            <a:off x="380880" y="1981080"/>
            <a:ext cx="3021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0:37:06Z</dcterms:created>
  <dc:creator>ACEDILLO</dc:creator>
  <dc:description/>
  <dc:language>en-US</dc:language>
  <cp:lastModifiedBy>HISD</cp:lastModifiedBy>
  <dcterms:modified xsi:type="dcterms:W3CDTF">2009-06-10T12:20:26Z</dcterms:modified>
  <cp:revision>50</cp:revision>
  <dc:subject/>
  <dc:title>Gallery Walk TAKS Objective #10</dc:title>
</cp:coreProperties>
</file>